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F53-86C2-461D-BED6-AD5FA04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6FB-8251-4C53-BDD5-894CD44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3CA-2067-485A-9605-45E7DC0C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1BF-D552-41BF-BBA3-926B4BCC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80F68-7513-4182-B4B8-5B388485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DD3A-332F-47F1-AA52-A8BEB4FE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6B0E4-E2B2-43F8-A763-F7467B0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85C9C-4F80-47B6-9BEB-A3AC703F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24C98-5398-4C07-B005-EAD17C1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8220B-5C44-4D18-A0FF-D272518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2137E-8334-422D-95F4-3A192B3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2ED-2824-45E9-BE6A-9E8B2F7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D29C-1D2B-4DF8-BC8A-19A552B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251A-6778-48B0-B401-E25EF7E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4C805-D05C-453F-8305-784A3BEC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D7076-C968-45C7-BDAA-E12307D5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0A5F0-D8C6-442A-B4A1-289931E5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4F9-F59E-4216-A8A8-06A6C57C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2B1-200F-4298-941F-2F7AFC15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B8A-CBD7-48C4-8334-73B622C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6DB-D7DF-4790-A791-85AB9E92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DCE-D231-494F-9AD0-DB46D6A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4D5-CCE9-4608-924E-8974072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F5B-781C-46EB-8B4D-7B52DB69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EC8-6706-4AEC-B16C-86DEAA7B3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E72-A624-47DB-9DDD-54118170C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4800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John Robert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jardín es herm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garaje es de luj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38188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s for watching!!!!!!!!!!!!!!!!!!!!!!!!!!!!!!!!!!!!!!!!!!!!!!!!!!!!!!!!!!!!!!!!!!!!!!!!!!!!!!!!!!!!!!!!!!!!!!!!!!!!!!!!!!!!!!!!!!!!!!!!!!!!!!!!!!!!!!!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04920" y="5638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21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217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80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 es estupen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 patio es gran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medor es lujos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 es gran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43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86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 bano es moder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1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a dormitorio es luj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030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patio es herm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153280" y="152388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8839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030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789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02Z</dcterms:created>
  <dc:creator>robertsonjoh</dc:creator>
  <dc:description/>
  <dc:language>en-US</dc:language>
  <cp:lastModifiedBy>robertsonjoh</cp:lastModifiedBy>
  <dcterms:modified xsi:type="dcterms:W3CDTF">2012-03-30T16:05:17Z</dcterms:modified>
  <cp:revision>9</cp:revision>
  <dc:subject/>
  <dc:title>Slide 1</dc:title>
</cp:coreProperties>
</file>